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14D-CEEB-4E38-8A2C-BF51A34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E27-43D7-4BAD-9AFA-0639B3AF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F9C-6974-42BD-AACE-4B66C3A5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320-3660-4689-A4DE-0F09922C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E76-EBC2-423B-8E3E-58382287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B1B6-6E5B-4178-A49E-ED04433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431D-4EC4-4DC0-A79E-2677460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930-2B0D-4522-ACA5-467B5C4D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F96-2B4B-4E1C-885C-7133C658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63CA-D70E-47BE-8F4F-4BB160F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5F0-9ABE-4D4D-97B9-0C2954B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953-A20A-45EC-904C-996A26F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2907-321A-41F5-ACE3-F765729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FC03-DE25-4648-9040-51DBCEC0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6689-3280-46BA-AD40-649994CB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5527-4C35-43A6-8556-B7BBC878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D226-56D6-4F71-8A9B-57F46C78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4784-8A8D-4BD6-A088-15FA30BE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30C0-494E-4A31-922A-56EFBCA8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40458-1C42-4499-85A5-EACB6D5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14EE-49C3-4A95-A4C5-95E076F6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2327-F2A0-49B9-A168-3C63F53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0BA-F59F-4BB3-A3B2-84478F83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36C3-BC52-4AAC-A8BF-F9A9A07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137C-1B04-44FE-A896-808C1BF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20A2C-E3B0-4BC0-AF17-66A3983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25931-F5B2-48B2-8FBC-35779D2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0B3B-8C8B-4CEF-A37A-0DB387D3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EB59-62CA-4D47-B56B-F68C53CE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2AF4-FD63-475A-B849-481AD742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3C90-E291-409D-BB3C-FF9C26F9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5089-11B9-4259-810D-4DC711E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4803D-229C-445B-BEA8-F5DFA0E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2EB-9ADB-4390-931E-8DED7F4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3E8A-9C48-4012-811C-24B8763D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4C41-CECD-49EC-9C3B-98A8D7A4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1FA6-6478-46A0-B3B9-472202C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C4B4-4AB6-48F8-83C3-E7C7325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C24E-D85E-4847-99B5-69DCB15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148B-17B4-427C-938C-B22AA12E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42F2-27D8-492C-8DBD-4383F02F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18B3-4D6F-4EDA-84AB-D375F9A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372D-01EF-40FD-9A36-07E4120A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F9D4-1D27-4432-9885-7403AB6C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020-8027-4809-8087-E314CD9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1611-1744-4116-AB38-E32A2A09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31CB-A435-4EFE-AE96-BBF1CAD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A53B-21F2-499E-9657-71490E1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FEF2E-98C1-461C-A2EF-931B471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94F9-0803-4A36-ADCB-307616F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0B13-7FEB-443F-A755-F99F944C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C0937-DA7C-4F22-9F3B-AD16FA0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ACE0-A042-4FBB-830D-1C62AF9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643D-3E4D-4C28-867D-E130014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F4CC-4E0B-4C55-A6C2-4EF12EB6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100-98D7-405F-9856-27B2235C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9949-91BF-4C8F-BC06-05586E83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4CD10-9807-4A32-B5CC-C58C3F7D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D133-3134-4EA3-A773-5472249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8B322-BAFC-4F50-B1CA-B04BD555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5ED4-7FF0-4CE5-8417-DC59E37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FD9D-CD44-441E-8496-20F713A1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A4768-DA85-4D59-9212-96DF3AE4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F8170-9B53-4454-A25E-1FDB261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E238-C3BE-47A0-8516-B4A9C15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8DAF-58B4-4891-B3F9-B9DA3587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CF1-5310-4076-B7D7-16BD0A7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D308-E78F-4B79-82FC-FCBF36E7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E7E88-7BDE-4713-BFD5-B930673E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540F-EBBE-4A81-9AB8-489316C6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2313-D722-4783-81B4-D9F2C03E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0C0B-9E02-4B96-94C4-35DEF39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30008-7BE8-4F17-9E16-C136F753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46510-B4FD-42F9-963B-69ECAC60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4F6F-025A-47E7-B2A5-EB0DD7B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1E1BA-117E-40BE-834B-5FAF2B5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6FFC-0E32-44F0-8602-8B62DAA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90D-469F-4EEA-B0AD-C57472C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33D0-8A57-4482-9243-80CE0B3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30F00-559A-4357-92E5-D9A32CD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909EA-C56C-45E4-BD81-FE0E0ADC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C13DA-463D-43C9-9BE7-6B3126B0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E70B-B5CB-4190-8ED7-D5DD3E16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AACB0-EB2D-4F6A-BD51-57884724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806B-92C8-41E2-920C-7BD3C38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55C5-0C16-44E3-A009-1FD57752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3A039-B04B-4157-81A3-726BAC45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B85E-E086-4E7A-AF77-6F9A38E2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AEA-B38D-47C5-8AA6-7784C4E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083CA-1C6E-4065-85DC-B27E9423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6CE3-ED81-495A-B124-C82C462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2F3DB-7A88-4E09-9D1C-842A974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2D99-6BF6-4592-A957-7B4983B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A61C-BD39-43BF-B4C9-058F689A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49436-1696-4348-883F-8799C242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13A6-8D1E-42C4-9663-0A1835B0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9A3-2E82-4047-B8FF-D990A716A7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7C50-88C0-498A-82B8-9B74F7CBDD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238F-5432-462C-852B-725429457F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DE0-972F-41E3-BE58-485AC6346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29FB-962A-4C18-82E1-A92B552EF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EEE1-4FB2-4BCA-ABCD-FAD6E61DB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311-9C2A-41FB-81C0-FF9D895DC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728-D9C0-44E9-810E-37CDA4E252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8406000" cy="2183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Prepared by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Lovely Rose O.Decen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BEED-SpED 2b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Refers to the users are in contact with other people concepts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It is the learners interaction with pre-existing and exposition.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Combining force  of the learners  in terms of the concept or task given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Lucida Sans Unicode"/>
              </a:rPr>
              <a:t>According to Larry Cuban has traced the history attempts to use the technology in the classroom.</a:t>
            </a:r>
            <a:endParaRPr b="0" lang="en-US" sz="3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Lucida Sans Unicode"/>
              </a:rPr>
              <a:t>Its effective used for the teacher having a machines because gaining knowledge for the student.</a:t>
            </a:r>
            <a:endParaRPr b="0" lang="en-US" sz="3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The ICT which is information communication technology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It is the student-teacher interaction engaging the technology exist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Lucida Sans Unicode"/>
              </a:rPr>
              <a:t>The biggest role of the society to sharpened individual thoughts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 rot="10800000">
            <a:off x="609480" y="665964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-115920" y="603360"/>
            <a:ext cx="89186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7238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365040" y="781200"/>
            <a:ext cx="9820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-45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2840" y="268200"/>
            <a:ext cx="89852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he progressive of individuals it depends to his/her capability  in order for him to succeed. Learning also is the long process to understand the context.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76040" y="0"/>
            <a:ext cx="85172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769608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385" name="Title 1" descr=""/>
          <p:cNvPicPr/>
          <p:nvPr/>
        </p:nvPicPr>
        <p:blipFill>
          <a:blip r:embed="rId2"/>
          <a:stretch/>
        </p:blipFill>
        <p:spPr>
          <a:xfrm>
            <a:off x="92160" y="139680"/>
            <a:ext cx="907560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685800"/>
            <a:ext cx="82296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Lucida Sans Unicode"/>
              </a:rPr>
              <a:t>Three Stages of learning can be identified these represent a learning cycle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04920" y="685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5:13:57Z</dcterms:created>
  <dc:creator>CHANGE_ME</dc:creator>
  <dc:description/>
  <dc:language>en-US</dc:language>
  <cp:lastModifiedBy>CHANGE_ME</cp:lastModifiedBy>
  <dcterms:modified xsi:type="dcterms:W3CDTF">2010-07-30T16:37:06Z</dcterms:modified>
  <cp:revision>10</cp:revision>
  <dc:subject/>
  <dc:title>Pedagogy, lifelong learning and ICT</dc:title>
</cp:coreProperties>
</file>